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BEC7DC-3AA2-4C31-A2E9-574D9AEE4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128902-65A4-42CF-B26F-09B76A9AA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C24423-903F-4468-BFD5-26395EE5C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4A29F7-4C86-425A-B30F-808E57DC6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D55D4B-DC05-402F-B420-4F2CF7C6C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D3DD565-B26D-41B2-8426-F0DF51105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C2EAF3-D905-422D-B171-CBA928DA8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4B6D61-DA8F-49FD-BB9E-7AAF2B68A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B12ABE-D11A-442F-BAA2-E45DACE15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7F1984-9703-45DD-84FA-5BCEB0131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E21D1A-9C4B-4688-8B44-AF4920CFD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CC8FBD-95B7-47FE-AB90-0A4833EDE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12E598-AC51-415B-9EE8-B8995B64F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8DF2DF-CFA4-4DB9-90EB-5C0409243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58EC-DD01-47E5-9DD4-E510BC94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921B-E707-4838-A78E-0595FF5B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23DF-7DAE-48BD-8CE0-F0E4138DC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26C9-6B49-41D5-8547-B6545E8D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2560-8FF6-497B-B57F-3FE6DB0B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97D1-FDEB-4192-972E-BA2CCD4D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ED1A-C256-472A-8DD6-1FD97D36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3F86-92F1-4D8F-B3FE-CED1F90A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1C99-2938-4A6A-A4C6-938BB198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3CC4-70C0-4B32-8B8A-ED5E779F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1078-6BC4-43DE-80D4-9C56A893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B0B3-3D4D-4BA3-ABCD-BC996808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8379-07AF-4422-86F1-EDF4D9A3E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enlargement/pdf/financial_assistance/ipa/2009/political/pf.02_civil_society_en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709D-94A5-43C9-9C4D-EBCC166C1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Increased Involvement by            Banking Associations in Financial Sector Modernization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Western Balkans and Turkey </a:t>
            </a:r>
            <a:br>
              <a:rPr sz="24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5"/>
          <p:cNvGrpSpPr/>
          <p:nvPr/>
        </p:nvGrpSpPr>
        <p:grpSpPr>
          <a:xfrm>
            <a:off x="380880" y="609480"/>
            <a:ext cx="2521080" cy="1032120"/>
            <a:chOff x="380880" y="609480"/>
            <a:chExt cx="2521080" cy="1032120"/>
          </a:xfrm>
        </p:grpSpPr>
        <p:sp>
          <p:nvSpPr>
            <p:cNvPr id="52" name="AutoShape 6"/>
            <p:cNvSpPr/>
            <p:nvPr/>
          </p:nvSpPr>
          <p:spPr>
            <a:xfrm>
              <a:off x="380880" y="609480"/>
              <a:ext cx="252108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7" descr=""/>
            <p:cNvPicPr/>
            <p:nvPr/>
          </p:nvPicPr>
          <p:blipFill>
            <a:blip r:embed="rId2"/>
            <a:stretch/>
          </p:blipFill>
          <p:spPr>
            <a:xfrm>
              <a:off x="380880" y="609480"/>
              <a:ext cx="2521080" cy="103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11"/>
          <p:cNvSpPr/>
          <p:nvPr/>
        </p:nvSpPr>
        <p:spPr>
          <a:xfrm>
            <a:off x="1523880" y="5257800"/>
            <a:ext cx="734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Banking Fed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th  Associates Meeting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ussels, 3 Decemb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gi Passamo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, Convergence Program, Worl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SPI Platform Toolkit: </a:t>
            </a:r>
            <a:br>
              <a:rPr sz="44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rong Commitment to Public-Private Co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AA35-24BE-400B-9BEA-2EC89454A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2280" y="1600200"/>
            <a:ext cx="883944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bust dialogue structure with public institu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s pursued by EU CSF Program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As participate in deciding the regulatory agen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y contribute to solution-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vidence-based pract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nhanc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elps design more market-friendly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y high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ork efficienc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nowledge shar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public institutions and other market particip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1920" y="91440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U Civil Society Facility can give EBF Associates generou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-year funding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 hire talent to scale up their infl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er legitimacy with members and socie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eper integration in regional and EU net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PI Platform is ideal vehicle to “connect” with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actively promote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filling EU CSF ultimate objective to create a vibrant civil society in future Memb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these importan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opportunities need to be internalize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EBF Associates Leadershi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72F3-A1B0-4A3D-932A-B19776011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2743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Project Funding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B748-33FA-4375-9AB6-9B89F2144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71640" y="5867280"/>
            <a:ext cx="8956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EU Grant leverage by SPI Platform in-kind resour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3809880"/>
          </a:xfrm>
          <a:prstGeom prst="rect">
            <a:avLst/>
          </a:prstGeom>
          <a:ln w="0">
            <a:noFill/>
          </a:ln>
        </p:spPr>
      </p:pic>
      <p:sp>
        <p:nvSpPr>
          <p:cNvPr id="138" name="Oval 11"/>
          <p:cNvSpPr/>
          <p:nvPr/>
        </p:nvSpPr>
        <p:spPr>
          <a:xfrm>
            <a:off x="2743200" y="2362320"/>
            <a:ext cx="990720" cy="91440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2860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BF Associate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 communicate to EBF desire to app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Civil Society Facility gr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e of activities to be finan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ies” and “Influen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ly, regionally and with EU counter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vergence Program will help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ill EBF SPI Platform toolkit information and valu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o content for a CSF grant ap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must be completed by 28 February 20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784F-AAFF-4EFD-A5E0-1F3DAF2B2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Civil Society Fac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762120"/>
            <a:ext cx="8991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European Commission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sh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rengthen the role of Banking Associa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As) in the Accession process refor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participation of BAs in decision-making, policy implementation and moni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ased cooperation between BAs and other civil society organizations and between BAs and auth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ra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up to €5 million for three yea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ortium of three BAs plus EU counter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0% co-pay by benefici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BD9B-5812-42F2-B45F-1E8B74A45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152280" y="65530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c.europa.eu/enlargement/pdf/financial_assistance/ipa/2009/political/pf.02_civil_society_en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lic Goal: Stronger BA Influence Through Various Partnershi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8F84-F48B-4163-88F4-5D2B7BD96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80880" y="2209680"/>
            <a:ext cx="274320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4572000" y="44197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6"/>
          <p:cNvSpPr/>
          <p:nvPr/>
        </p:nvSpPr>
        <p:spPr>
          <a:xfrm>
            <a:off x="6629400" y="1447920"/>
            <a:ext cx="2057400" cy="19047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7"/>
          <p:cNvSpPr/>
          <p:nvPr/>
        </p:nvSpPr>
        <p:spPr>
          <a:xfrm>
            <a:off x="6629400" y="36576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"/>
          <p:cNvSpPr/>
          <p:nvPr/>
        </p:nvSpPr>
        <p:spPr>
          <a:xfrm>
            <a:off x="4419720" y="2286000"/>
            <a:ext cx="2057400" cy="1905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4876920" y="3592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1295280" y="3200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4572000" y="3059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5715000" y="3059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>
            <a:off x="518148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Straight Arrow Connector 31"/>
          <p:cNvCxnSpPr/>
          <p:nvPr/>
        </p:nvCxnSpPr>
        <p:spPr>
          <a:xfrm>
            <a:off x="5105160" y="327672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2" name="Straight Arrow Connector 37"/>
          <p:cNvCxnSpPr/>
          <p:nvPr/>
        </p:nvCxnSpPr>
        <p:spPr>
          <a:xfrm flipV="1">
            <a:off x="4952520" y="274248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Straight Arrow Connector 38"/>
          <p:cNvCxnSpPr>
            <a:endCxn id="69" idx="0"/>
          </p:cNvCxnSpPr>
          <p:nvPr/>
        </p:nvCxnSpPr>
        <p:spPr>
          <a:xfrm>
            <a:off x="5638320" y="2743200"/>
            <a:ext cx="42012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43"/>
          <p:cNvCxnSpPr/>
          <p:nvPr/>
        </p:nvCxnSpPr>
        <p:spPr>
          <a:xfrm flipV="1">
            <a:off x="6552720" y="3123360"/>
            <a:ext cx="3819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44"/>
          <p:cNvCxnSpPr/>
          <p:nvPr/>
        </p:nvCxnSpPr>
        <p:spPr>
          <a:xfrm>
            <a:off x="6400440" y="3885840"/>
            <a:ext cx="30564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45"/>
          <p:cNvCxnSpPr/>
          <p:nvPr/>
        </p:nvCxnSpPr>
        <p:spPr>
          <a:xfrm flipV="1">
            <a:off x="7085160" y="3277800"/>
            <a:ext cx="36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57"/>
          <p:cNvCxnSpPr/>
          <p:nvPr/>
        </p:nvCxnSpPr>
        <p:spPr>
          <a:xfrm>
            <a:off x="3352320" y="327672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8" name="Straight Arrow Connector 58"/>
          <p:cNvCxnSpPr/>
          <p:nvPr/>
        </p:nvCxnSpPr>
        <p:spPr>
          <a:xfrm flipH="1">
            <a:off x="6246000" y="4040280"/>
            <a:ext cx="3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9" name="Straight Arrow Connector 62"/>
          <p:cNvCxnSpPr/>
          <p:nvPr/>
        </p:nvCxnSpPr>
        <p:spPr>
          <a:xfrm>
            <a:off x="3352320" y="3809880"/>
            <a:ext cx="122004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Straight Arrow Connector 63"/>
          <p:cNvCxnSpPr/>
          <p:nvPr/>
        </p:nvCxnSpPr>
        <p:spPr>
          <a:xfrm>
            <a:off x="3123720" y="4419360"/>
            <a:ext cx="11437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1" name="TextBox 66"/>
          <p:cNvSpPr/>
          <p:nvPr/>
        </p:nvSpPr>
        <p:spPr>
          <a:xfrm>
            <a:off x="7010280" y="2514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7"/>
          <p:cNvSpPr/>
          <p:nvPr/>
        </p:nvSpPr>
        <p:spPr>
          <a:xfrm>
            <a:off x="7010280" y="4648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8"/>
          <p:cNvSpPr/>
          <p:nvPr/>
        </p:nvSpPr>
        <p:spPr>
          <a:xfrm>
            <a:off x="4952880" y="55627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1"/>
          <p:cNvSpPr/>
          <p:nvPr/>
        </p:nvSpPr>
        <p:spPr>
          <a:xfrm>
            <a:off x="228600" y="6324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Viktorija’s 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lowchart: Connector 27"/>
          <p:cNvSpPr/>
          <p:nvPr/>
        </p:nvSpPr>
        <p:spPr>
          <a:xfrm>
            <a:off x="6553080" y="34290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8"/>
          <p:cNvSpPr/>
          <p:nvPr/>
        </p:nvSpPr>
        <p:spPr>
          <a:xfrm>
            <a:off x="4803480" y="251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9"/>
          <p:cNvSpPr/>
          <p:nvPr/>
        </p:nvSpPr>
        <p:spPr>
          <a:xfrm>
            <a:off x="66322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3660480" y="373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lowchart: Connector 32"/>
          <p:cNvSpPr/>
          <p:nvPr/>
        </p:nvSpPr>
        <p:spPr>
          <a:xfrm>
            <a:off x="4724280" y="243828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lowchart: Connector 33"/>
          <p:cNvSpPr/>
          <p:nvPr/>
        </p:nvSpPr>
        <p:spPr>
          <a:xfrm>
            <a:off x="3581280" y="3657600"/>
            <a:ext cx="457200" cy="457200"/>
          </a:xfrm>
          <a:prstGeom prst="flowChartConnector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 Will Help Involv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G Enlargement will invite authorities to participate in evaluation of propos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expects authorities to be closely involved in the project as an associated partner, the main counterpart or participa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will inform authorities about the overall implementation of the projec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4560-878B-4F6B-B690-B48A57900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lustrative Activities Finance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4EC6-BE76-4D10-AADA-4091EEE6C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62120" y="4495680"/>
            <a:ext cx="1600200" cy="152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743200" y="4191120"/>
            <a:ext cx="1600200" cy="1828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572000" y="3048120"/>
            <a:ext cx="1600200" cy="297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629400" y="2438280"/>
            <a:ext cx="1600200" cy="358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762120" y="4724280"/>
            <a:ext cx="167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hops and seminars on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2666880" y="426708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training to BA staff on economic impact of EU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0"/>
          <p:cNvSpPr/>
          <p:nvPr/>
        </p:nvSpPr>
        <p:spPr>
          <a:xfrm>
            <a:off x="4495680" y="3352680"/>
            <a:ext cx="1752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ship activities between BAs, think-tanks, other associations to influenc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qu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6553080" y="2666880"/>
            <a:ext cx="1752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ablishment of Platforms to formulate concrete recommenda-tions and practical solutions,    and exchange of goo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838080" y="1143000"/>
            <a:ext cx="3353040" cy="1066680"/>
          </a:xfrm>
          <a:prstGeom prst="ellipse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4876920" y="1143000"/>
            <a:ext cx="3352680" cy="10666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1460160" y="1371600"/>
            <a:ext cx="202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5799960" y="1371600"/>
            <a:ext cx="16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easures of Success </a:t>
            </a:r>
            <a:br>
              <a:rPr sz="32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within 2 years after project 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nsultations by public authorities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measures taken to adopt and implement EU a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qu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ibutio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new join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itiatives/network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common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 papers on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 of actions (workshops, trainings, campaigns, manual/guides, etc) involving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A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public authorities regarding EU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cqu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B3E5-F742-40B6-A068-0B995D9AC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Grant: A Game-Changer for EBF Associat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280" y="17524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resources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operate with public authoriti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form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for substant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gional cooperation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pursue similar projec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nding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ceive high-quality assistan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rom EU partner institu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6CBF-43A0-4326-A1D2-6827D3032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servic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BF Associate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ool t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pport EBF Associate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enhancing their contribution to financial sector modernization through structured dialogue with other private and public partners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taile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uide on action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documents for implementing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vernance framework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operate an SPI Platform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World Bank’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vergence Program experi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lbania and Roman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3F6B-0AC9-4EED-81B2-5D2B75AF3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6629400" y="6172200"/>
            <a:ext cx="1600200" cy="538200"/>
            <a:chOff x="6629400" y="6172200"/>
            <a:chExt cx="1600200" cy="538200"/>
          </a:xfrm>
        </p:grpSpPr>
        <p:sp>
          <p:nvSpPr>
            <p:cNvPr id="117" name="AutoShape 6"/>
            <p:cNvSpPr/>
            <p:nvPr/>
          </p:nvSpPr>
          <p:spPr>
            <a:xfrm>
              <a:off x="6629400" y="6172200"/>
              <a:ext cx="16002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7" descr=""/>
            <p:cNvPicPr/>
            <p:nvPr/>
          </p:nvPicPr>
          <p:blipFill>
            <a:blip r:embed="rId1"/>
            <a:stretch/>
          </p:blipFill>
          <p:spPr>
            <a:xfrm>
              <a:off x="6629400" y="6172200"/>
              <a:ext cx="1600200" cy="538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20968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563040"/>
            <a:ext cx="899172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Toolkit –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at is the SPI Platform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y is it import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promo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fund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operat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5848-6123-459A-B8B6-AE8D7AA2D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8380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5"/>
          <p:cNvGrpSpPr/>
          <p:nvPr/>
        </p:nvGrpSpPr>
        <p:grpSpPr>
          <a:xfrm>
            <a:off x="6629400" y="5943600"/>
            <a:ext cx="1600200" cy="609480"/>
            <a:chOff x="6629400" y="5943600"/>
            <a:chExt cx="1600200" cy="609480"/>
          </a:xfrm>
        </p:grpSpPr>
        <p:sp>
          <p:nvSpPr>
            <p:cNvPr id="126" name="AutoShape 6"/>
            <p:cNvSpPr/>
            <p:nvPr/>
          </p:nvSpPr>
          <p:spPr>
            <a:xfrm>
              <a:off x="6629400" y="5943600"/>
              <a:ext cx="16002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7" descr=""/>
            <p:cNvPicPr/>
            <p:nvPr/>
          </p:nvPicPr>
          <p:blipFill>
            <a:blip r:embed="rId2"/>
            <a:stretch/>
          </p:blipFill>
          <p:spPr>
            <a:xfrm>
              <a:off x="6629400" y="5943600"/>
              <a:ext cx="1600200" cy="60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$M</dc:creator>
  <dc:description/>
  <dc:language>en-US</dc:language>
  <cp:lastModifiedBy>Viktorija Proskurovska</cp:lastModifiedBy>
  <dcterms:modified xsi:type="dcterms:W3CDTF">2009-12-07T09:12:38Z</dcterms:modified>
  <cp:revision>1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